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ED1-37DE-4C69-B297-0425F6AB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1A5-9F7A-434D-A385-9066295A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D16-8146-4658-8E78-BFC76EF9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AF4-1CA1-49C9-862D-A7052DDB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C2E5E-F476-43CA-AF69-BB87B95B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9220A-0992-4907-A2B2-4652B9A0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32416-BE0A-400C-9C90-C8D0B4C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9F364-9E0F-4C76-AF24-728B43F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1EBE1-3519-40CE-BBD3-FC018258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C6BD1-87F1-4808-8152-BE6B5583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8B491-3619-4057-ACCF-D6E368A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486-35D0-4C12-8102-24F83B0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8D974-110E-47A4-A76F-C1FDCFB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446EF-33F1-4742-AE03-6C7C7D0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E9032-5EFE-45C0-8861-1550FE9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F72B4-6F12-467D-BA1C-A2F93278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C016-B6DB-400E-9995-25BEC540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761-C1AD-44F2-9BE2-DC0F634C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01E-4619-4FC1-A081-C96A23C4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923-1BE2-4680-81FF-AE30F038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3D9-5F99-4FDE-998B-158AD5D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079-EC76-4AB1-AB38-0210B31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EE9-FA9C-4898-AB4E-728537E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CFE-894E-42E1-8461-EF79FD3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C56-331D-499D-B03F-F3EB3E467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A00C-6CE5-4A8B-9160-2F16715D98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Tahoma"/>
              </a:rPr>
              <a:t>Суффикс  - 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85880" y="2857320"/>
            <a:ext cx="3354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ЗВОНОЧ…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ая соединительная линия 7"/>
          <p:cNvSpPr/>
          <p:nvPr/>
        </p:nvSpPr>
        <p:spPr>
          <a:xfrm flipV="1">
            <a:off x="5638680" y="228240"/>
            <a:ext cx="457200" cy="42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>
            <a:off x="6095160" y="228600"/>
            <a:ext cx="428760" cy="42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571680" y="1571760"/>
            <a:ext cx="81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Найди  слово  с  суффиксом  –и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Поставь  во множ. число  и  узнаеш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785880" y="3786120"/>
            <a:ext cx="3281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ПЛАТ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785880" y="4786200"/>
            <a:ext cx="27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3.  КУЛЁ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4786200" y="2857680"/>
            <a:ext cx="360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КОТЁН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4786200" y="3714840"/>
            <a:ext cx="302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5.  СТУЛЬЧ…К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786200" y="4714920"/>
            <a:ext cx="353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 ТЕЛЁН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6553080" y="373392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2916360" y="285264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2916360" y="378936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7236000" y="285264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7236000" y="47242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2514600" y="480060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Tahoma"/>
              </a:rPr>
              <a:t>Суффикс  - Е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85520" y="2857320"/>
            <a:ext cx="2786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ДОМ…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ая соединительная линия 7"/>
          <p:cNvSpPr/>
          <p:nvPr/>
        </p:nvSpPr>
        <p:spPr>
          <a:xfrm flipV="1">
            <a:off x="5638680" y="380520"/>
            <a:ext cx="457200" cy="42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>
            <a:off x="6095160" y="380880"/>
            <a:ext cx="428760" cy="42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71680" y="15001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Найди  слово  с  суффиксом  –е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Поставь  во множ. число  и  узнаеш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785880" y="3786120"/>
            <a:ext cx="27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КЛЮ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785880" y="4786200"/>
            <a:ext cx="31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3.  ЗАМ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4786200" y="2857680"/>
            <a:ext cx="324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ЦВЕТ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4786200" y="371484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БАНТ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Подзаголовок 2"/>
          <p:cNvSpPr/>
          <p:nvPr/>
        </p:nvSpPr>
        <p:spPr>
          <a:xfrm>
            <a:off x="4786200" y="471492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6.  РОТ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268360" y="285264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428920" y="378612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6372360" y="37162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6084720" y="472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2771640" y="479736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6948360" y="285264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Tahoma"/>
              </a:rPr>
              <a:t>Суффикс   - Е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85520" y="2857320"/>
            <a:ext cx="2786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ЗОНТ…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ая соединительная линия 8"/>
          <p:cNvSpPr/>
          <p:nvPr/>
        </p:nvSpPr>
        <p:spPr>
          <a:xfrm flipV="1">
            <a:off x="5791320" y="304920"/>
            <a:ext cx="457200" cy="42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>
            <a:off x="6248520" y="304920"/>
            <a:ext cx="428400" cy="42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571680" y="1571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Найди  слово  с  суффиксом  –е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Поставь  во множ. число  и  узнаеш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785880" y="3786120"/>
            <a:ext cx="27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БРАТ….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Подзаголовок 2"/>
          <p:cNvSpPr/>
          <p:nvPr/>
        </p:nvSpPr>
        <p:spPr>
          <a:xfrm>
            <a:off x="785880" y="4786200"/>
            <a:ext cx="335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ЛИСТ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Подзаголовок 2"/>
          <p:cNvSpPr/>
          <p:nvPr/>
        </p:nvSpPr>
        <p:spPr>
          <a:xfrm>
            <a:off x="4786200" y="285768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4.  КУБ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Подзаголовок 2"/>
          <p:cNvSpPr/>
          <p:nvPr/>
        </p:nvSpPr>
        <p:spPr>
          <a:xfrm>
            <a:off x="4786200" y="371484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ШАР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Подзаголовок 2"/>
          <p:cNvSpPr/>
          <p:nvPr/>
        </p:nvSpPr>
        <p:spPr>
          <a:xfrm>
            <a:off x="4786200" y="4714920"/>
            <a:ext cx="309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6.  БАРАШ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2987640" y="479736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6629400" y="47242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2133720" y="38098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2340000" y="285264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6000840" y="28576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6227640" y="3716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Tahoma"/>
              </a:rPr>
              <a:t>Суффикс   - ИК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786200" y="4714560"/>
            <a:ext cx="3098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 ГОРОШ…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ая соединительная линия 7"/>
          <p:cNvSpPr/>
          <p:nvPr/>
        </p:nvSpPr>
        <p:spPr>
          <a:xfrm flipV="1">
            <a:off x="5715000" y="304920"/>
            <a:ext cx="457200" cy="42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6171480" y="304920"/>
            <a:ext cx="428760" cy="42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571680" y="1571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Найди  слово  с  суффиксом  –и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4d"/>
                </a:solidFill>
                <a:latin typeface="Cambria"/>
              </a:rPr>
              <a:t>Поставь  во множ. число  и  узнаеш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Подзаголовок 2"/>
          <p:cNvSpPr/>
          <p:nvPr/>
        </p:nvSpPr>
        <p:spPr>
          <a:xfrm>
            <a:off x="785880" y="3786120"/>
            <a:ext cx="27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КОВР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785880" y="4786200"/>
            <a:ext cx="27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3.  ОРЕШ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4786200" y="285768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4.  ДВОР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4786200" y="3714840"/>
            <a:ext cx="278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КОЗЛ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785880" y="2857680"/>
            <a:ext cx="306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ЗУБОЧ…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514600" y="28954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2209680" y="373392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2484360" y="479736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6372360" y="285264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6372360" y="37162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6732720" y="4724280"/>
            <a:ext cx="35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mbria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7:2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